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C6DA-F812-4049-862C-0B59F341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1B6E-CC13-41B8-9E12-A63F54BB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EA7B-7FF8-4A5D-B262-CBEF6455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A6D-9978-4CA7-8648-20BFAA44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D8E-C3F3-445F-8FDA-C12682E2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D2CA-E757-4712-AF2D-FB06695D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93C5-60B5-4013-834A-33A43782B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563-4543-4472-9E3F-F98598C7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E859-E53D-4CAA-80C6-4D07E6DE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FD00-AF03-4DE4-80A1-B98A7A7C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C0D-BDB8-4066-831B-39FB07E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801-7352-43EC-A2B5-3975384C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1C7DD-FF46-4DC4-A024-E67B0B9B3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xis Angles – All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give the correct answer to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specify when an answer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455840" y="2225520"/>
          <a:ext cx="38257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225520"/>
                    <a:ext cx="38257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55920" y="2075040"/>
          <a:ext cx="3624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4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204920" y="2075040"/>
          <a:ext cx="4329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075040"/>
                    <a:ext cx="4329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52640" y="1219320"/>
          <a:ext cx="4630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0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355760" y="1219320"/>
          <a:ext cx="40258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58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405080" y="1219320"/>
          <a:ext cx="3925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5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154160" y="2075040"/>
          <a:ext cx="44290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2075040"/>
                    <a:ext cx="44290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203480" y="2075040"/>
          <a:ext cx="43304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075040"/>
                    <a:ext cx="43304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04800" y="2125800"/>
          <a:ext cx="372456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2125800"/>
                    <a:ext cx="372456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504800" y="2225520"/>
          <a:ext cx="37260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2225520"/>
                    <a:ext cx="37260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152360" y="2075040"/>
          <a:ext cx="44323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75040"/>
                    <a:ext cx="44323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6048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103400" y="1219320"/>
          <a:ext cx="45324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24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405080" y="1219320"/>
          <a:ext cx="3925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5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555920" y="2075040"/>
          <a:ext cx="3624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4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506600" y="2225520"/>
          <a:ext cx="372420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2225520"/>
                    <a:ext cx="372420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606680" y="2075040"/>
          <a:ext cx="35226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26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155600" y="2075040"/>
          <a:ext cx="44290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2075040"/>
                    <a:ext cx="44290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03400" y="1219320"/>
          <a:ext cx="452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2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06520" y="1219320"/>
          <a:ext cx="39243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1219320"/>
                    <a:ext cx="3924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54040" y="2125800"/>
          <a:ext cx="382608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2125800"/>
                    <a:ext cx="38260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405080" y="1219320"/>
          <a:ext cx="3925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5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203480" y="2075040"/>
          <a:ext cx="4329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2075040"/>
                    <a:ext cx="4329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504800" y="2075040"/>
          <a:ext cx="3726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2075040"/>
                    <a:ext cx="3726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5541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152360" y="1219320"/>
          <a:ext cx="4432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219320"/>
                    <a:ext cx="4432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604880" y="2075040"/>
          <a:ext cx="35244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075040"/>
                    <a:ext cx="35244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2-04T21:05:50Z</dcterms:modified>
  <cp:revision>7</cp:revision>
  <dc:subject/>
  <dc:title>Slide 1</dc:title>
</cp:coreProperties>
</file>